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FB571-4EC3-4397-B632-BB0E68FBB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s: Countries that are the most are England and 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sons for overtaking a country: natural resources, power, money, gr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A8AB6-D12F-414C-844F-0114E9CF0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519-CC0E-4C21-927E-B58E93F8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F0B-8FBB-4AF7-BB26-86621BFB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12247-4A44-44E8-A35D-E526804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BE640-7827-4CCB-9E54-E0DDA9B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66510-91D3-44DD-9800-E5B96F53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36081-EB13-44A3-BF70-C9A9847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25474-67FE-4B5F-9062-C27008A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3CA36-FFCC-46AB-BFBD-BC94D3B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291DA-1388-481F-A60E-5AB54BFC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55966-AE52-4241-9648-4C2FEDFE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7E527-01F3-4A9A-8408-D46C821D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37AA4-ACDE-45EF-AF9A-578CE0A2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28B-9A08-4A9F-8808-96C31263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F7FBE-4B44-46D7-BA27-59584862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A3DF6-8526-45DF-AD30-C396738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8627B-6E45-433C-A5FB-4AE4DF4E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6A8EE-B37F-4A63-8867-8994877D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9DEEC-57AB-4A33-AB4E-6697852E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EB4DD-F5BA-4933-851F-6AB8E0B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2DB5F-0D7A-4FB1-B212-4E93570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1BBB3-69C0-4885-9A6A-E59223C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47918-D4B9-4FF5-9E70-7AFA7478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97391-243A-4B52-A839-15D14C62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EC2-A0FB-4DBB-AB86-1A3624E4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CF1CE-F3AE-4A60-8E94-E933B84A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1DA37-6E89-4F3F-A749-3F62C610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536A0-7222-48F4-8B02-2FF68070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2DDCD-4C40-452F-A127-226011F6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B3389-8364-44C6-BB9E-5B0EA497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5C367-A8F1-42B5-B4F7-912D13D6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D4435-FB35-46EB-AC96-A292F101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059B-54A3-4266-8018-56B8C60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A150-0D1A-4069-9CA5-C0E71068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F43C7-D512-4110-A54C-ABD8937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F516-811B-422F-B80C-0EEEA6DB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D3F6E-E5F2-4D25-A657-EEBD1E3E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18F60-07BC-4663-A8CB-37B49A89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32435-B530-4BA9-B041-C88BC2B6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A45A-781B-42F1-B458-12DB80F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49AF-820E-4D90-AD9D-881B386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B151-2983-4313-8784-8AD31104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DF88-4799-4E72-9279-786B2FB2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D489-F4AA-4973-AA6F-9EFE348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CCD6-8F7E-4E6D-89AD-18873973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CA7-FEB0-4790-A5F0-8E1DBDB6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311-07BC-4B46-9CA5-54AB6FE7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1340-03A3-4B49-B395-ED243ECF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34A2-0959-4079-8971-162AC21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266-4236-43CA-A60B-20B9AA1E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53E-9828-42F2-B9AA-7008F488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6249D-A5E6-4B9B-9B12-3F220417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81D3-A82C-415C-A27D-19E9B73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0452-5B32-47A9-BC43-EACD53E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F36C-E1B3-452A-B3C7-082FDE46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CEB10-A1DF-4004-A610-980AD16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D70-A2F8-4B7F-BA26-CAFA7FD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0506-5515-477A-8DAA-826C825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410B-6A3A-4122-BDB6-FB8E0C96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0443-5F22-48AA-849B-78E15F4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8D30-B6D5-45A6-91D9-A99746B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8CBC-8938-4A0A-971F-FE69E0F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7EED-A068-4F4A-87DA-C5EB9EA7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CE3F-EF2D-4DD6-BCB5-0F8571F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8520-CCE4-4595-8ACC-A30E41F4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25FB3-5116-4CD1-8C70-D07454E9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39F2-5307-4AFD-A7CA-0549CA07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17D-5D05-4B71-8346-B0B844D8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5CEA-006E-467C-85CA-AF4264C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959A-BD65-46DC-ABC0-BADFBDBA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188E-3209-44C9-B9C9-1C6BBA7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9DB3-7751-4DD0-A34D-644DEAE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D580-19DE-462B-B052-3CD5F42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A536-6D08-4B89-80BE-F20E067B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54CC-9511-4617-9F54-8DF8027D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5162-D8A6-4C93-BB36-8796FC80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37843-D6C3-4F6D-92C3-DD8B5C62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B715D-820E-4292-B7DD-0530355D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EF6-8F94-462B-8668-B8BE6E2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DC621-BB9E-41E6-BAF6-846C3BB0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94ED-7274-4A42-B3D7-BB6B9709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648B-64E4-404D-A496-4BD4730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F605-1C9E-407E-AE4C-1C0638C8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6EF8-2C87-4D22-BC97-36C712FC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F710-D373-4533-814C-8981F87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71F4-57CC-4178-B114-A40A327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563B-771C-48FA-8623-56E53A42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297D-BECF-4936-95FB-9C812164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66ED-7CD5-4054-9943-A81DC9B4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4E7-EBA6-41E8-8CAB-041621D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CC34-5DA8-4A03-A0F6-4C7DF650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2000F-5012-4B15-A50D-4D25BF3A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9E282-1DD0-4591-8C67-D26FD3BA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31DF1-0089-407E-8DB6-8A97E42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1CEC-A612-499A-8D12-53C5CF5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0B728-5E0C-41C5-BEC1-C1075DDB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396F4-391B-4174-B9BA-C30AE14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31BD-1E16-49C1-95A9-E5E0A97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50FC-6409-47EF-88FD-7510B32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AE89-D20E-4CD0-B053-CE9C580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D20-119C-4621-BF01-B17F2B5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8372-E4F5-4DB9-B1C0-625F6A6E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2B2C0-3BBE-4A8D-8711-8F6213AF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249D7-E572-4804-88DD-72FB28DD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053DE-13CA-4735-B327-4071C111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9E9AD-43DD-4DE9-83BE-CC916FD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38989-FFDE-470B-960D-935A12F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BBDE3-67A0-46A0-BB7E-A0CE9EC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7927-5B17-45CE-9FD9-05A4E506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7C92-B540-4FF5-BE59-A6F83831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23DD-0FC2-4656-9CE9-1A2691B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FEE-904E-4E63-9145-0ABA6C7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191F-7943-46AA-BAAB-7A2C95A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1B211-C007-48DA-A471-417170BF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7BDA-6CD4-4C32-A668-C35876C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289C-D024-4596-B645-6595D541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6BC28-C242-4F1E-B4E8-C35FA7AE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E674D-7FD4-4DD7-BA83-749D6DE7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06707-F9EF-40CE-84A1-5A70DBA1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9865-32D9-4AB4-98D0-CEB2BBF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259F2-5A30-4B17-AA2C-2F295810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6E221-B931-4DC1-9600-6839C55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A6E-B554-4029-B54D-A6EF676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9DE0-137C-4212-9092-727970D0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95880-2FF1-41C8-A05A-5A7955E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BC657-B4F7-4CBE-962B-0DAFB52D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DEA9-344D-4D58-A6F7-F7CD8BA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64BBC-C533-4D9E-9E59-1B0D4DB5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0244-EAB6-436A-9D71-7D3D833A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91CE-3165-46C8-BA63-E24EB4AA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C7FD-74A6-4C8A-90CE-5A0166FE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0EA6C-0008-4AB8-95EB-4779A0F9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AFF70-EFDB-4AE2-8637-7AF3AFF1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70860-1F85-44FD-BED4-0D55831EAA3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F4968-B302-4EF0-961A-4F74CA8B848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23D31-40D0-45D8-95D3-ACB61B3311B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0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FF99C-F3D0-4A3C-8BBA-A970AA11314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37F5A-9069-46A5-B626-F99F33952BB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0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990FD-F317-43CD-8C05-F8E287D87CA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79120-21D5-48C6-8C39-CB7D8F5257E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C81CC-643A-4BC7-84C2-A1D717B7A59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10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E6106-41C8-4A05-8147-CDA825847AD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0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5EA34-C1F0-4E64-80D3-A183E775B59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0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5360" y="494640"/>
                <a:ext cx="3310920" cy="48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3080" y="807840"/>
                <a:ext cx="2718720" cy="425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15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D9595-3091-4F1B-8676-B9EF34D872D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public.iastate.edu/~cfford/342WorldHistoryModern.html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LEADING TO WWI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1700 – 1900 SUMMA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ERIA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tion: When one country takes over another country to build an empir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d equals power, which countries are the most powerful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y would a country want to take over another countr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442520" y="2015640"/>
            <a:ext cx="6572520" cy="344988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4"/>
          <p:cNvSpPr/>
          <p:nvPr/>
        </p:nvSpPr>
        <p:spPr>
          <a:xfrm>
            <a:off x="304920" y="63244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fa2b5c"/>
                </a:solidFill>
                <a:uFillTx/>
                <a:latin typeface="Calibri"/>
                <a:hlinkClick r:id="rId3"/>
              </a:rPr>
              <a:t>http://www.public.iastate.edu/~cfford/342WorldHistoryModern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395080" y="801720"/>
            <a:ext cx="5619960" cy="25416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M.A.I.N.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395080" y="3530160"/>
            <a:ext cx="5619960" cy="9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AJOR CAUSES OF WWI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LITARISM (ARMS RAC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ition: Making your military bigger and better than other countr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y would you want your military bigger than other countrie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problems can arise when compete against other countries military strength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IA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 agreement between two or more countries to help each other. It can include military help, money or providing of weapon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te 1800’s many countries in Europe made various alliances, Triple Entente (Britain, Russia and France) and The Dual Alliance (Germany and Austria-Hungar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DUSTRIAL REVOL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ring the 1800’s the Industrial Revolution was happening in Europ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the invention of factories, weapons were less expensive to produce allowing countries to improve and buy them in mass quantitie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ere also experimenting with new weapons such as airplanes, tanks, chemical warf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ide for your count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does it mean to have pride for your country?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you have pride for your country, what would do to help your country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9:16:25Z</dcterms:created>
  <dc:creator>USOE</dc:creator>
  <dc:description/>
  <dc:language>en-US</dc:language>
  <cp:lastModifiedBy>Grace</cp:lastModifiedBy>
  <dcterms:modified xsi:type="dcterms:W3CDTF">2016-11-16T01:13:28Z</dcterms:modified>
  <cp:revision>6</cp:revision>
  <dc:subject/>
  <dc:title>Leading to WWI</dc:title>
</cp:coreProperties>
</file>